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0F065-9C09-469E-B081-258814F64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9169F-334A-4333-A1D8-741EC80AD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D2C96-100D-4815-A894-2E0E8F064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0901B-120B-47C0-B54B-B644F6F4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8172C-612A-4F5E-B2E0-E6242E3D7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8857-D1DA-467E-A054-88A9B308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D79F-E83E-4937-9C8C-F8F47C39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58D8-D45E-4745-B05B-F67C58BF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F6F89-80B5-4574-98D0-FC4776073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E9B8-9A34-4D19-A570-5A2948EA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FDCF-2B2B-4D8B-B3B8-4471D670A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6F13-41B3-49AB-8C41-E8D598843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D4F5-7AA4-4492-8A96-801C240BA0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Evolution</a:t>
            </a:r>
            <a:br>
              <a:rPr sz="4400"/>
            </a:br>
            <a:r>
              <a:rPr b="0" lang="en-US" sz="3600" spc="-1" strike="noStrike">
                <a:solidFill>
                  <a:srgbClr val="000000"/>
                </a:solidFill>
                <a:latin typeface="Calibri"/>
              </a:rPr>
              <a:t>The Value Line</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2209320"/>
            <a:ext cx="640080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t work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will read a statemen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to your RIGHT if you agree!</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to your LEFT if you disagree!</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worry about being right or wrong. This is only meant to get you thinking!</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nderthals lived at the same time as modern hum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nderthals lived at the same time as modern huma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ru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anderthals may have even come into conflict or competition with modern humans. Some scientists theorize that humans may have even wiped out Neanderthals in violent confli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are constantly getting “b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are constantly getting “b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really knows?</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ime will tell. We might be becoming more advanced and more fit to survive on our planet, or we might be making decisions that could cause the extinction of our spe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all happens completely by chanc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all happens completely by chanc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volution is no different from any other type of evolution in this sense. The individuals with traits best suited to their environment will be the ones that survive to reproduce. While </a:t>
            </a:r>
            <a:r>
              <a:rPr b="0" i="1" lang="en-US" sz="2400" spc="-1" strike="noStrike">
                <a:solidFill>
                  <a:srgbClr val="000000"/>
                </a:solidFill>
                <a:latin typeface="Calibri"/>
              </a:rPr>
              <a:t>mutations</a:t>
            </a:r>
            <a:r>
              <a:rPr b="0" lang="en-US" sz="2400" spc="-1" strike="noStrike">
                <a:solidFill>
                  <a:srgbClr val="000000"/>
                </a:solidFill>
                <a:latin typeface="Calibri"/>
              </a:rPr>
              <a:t> occur by chance, which ones get passed to future generations are n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ps in the fossil record disprove human evolu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ps in the fossil record disprove human evolu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re certainly are gaps in the fossil record, they do not disprove human evolution. Some transitional species have surely not been found yet, and some may never be found, depending on what became of their rema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will make humans more and more comple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will make humans more and more complex.</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knows?</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depend entirely on the selective pressures placed on human beings in the futu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ved from modern-day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plex organism is the most “fit”, or most suited to live in its environ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complex organism is the most “fit”, or most suited to live in its environmen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a very simply designed organism is the best fit. Sharks, some of the most simple fish species, have remained relatively unchanged for millions of years. Same goes for bacteria! It all depends on the environ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has a definite direc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ution has a definite direc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master plan” for how humans will change – it’s all in the pressures the environment will put on us. The environment will largely dictate how we change, or how we don’t ch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evolved from modern-day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s and modern-day apes all descended from a common ancestor that lived tens of thousands of years ag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volution of chimpanzees, gorillas, and humans can be described as a very linear proces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volution of chimpanzees, gorillas, and humans can be described as a very linear proces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ientists don’t have the whole picture yet, but the human evolutionary “family” looks more like a branched out tree than a single lin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utations that occur in human DNA will have a harmful effec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utations that occur in human DNA will have a harmful effec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mutations in human DNA actually confer a survival advantage in some environments. We’ll look at one vivid example of this in depth in a couple of day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umans evolved from apes, there should be no more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a:t>
            </a:r>
            <a:r>
              <a:rPr b="0"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lang="en-US" sz="3200" spc="-1" strike="noStrike">
                <a:solidFill>
                  <a:srgbClr val="000000"/>
                </a:solidFill>
                <a:latin typeface="Calibri"/>
              </a:rPr>
              <a:t>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humans evolved from apes, there should be no more ap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alse!</a:t>
            </a: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rn apes can exist because they are simply the latest branches in an evolutionary tree. Remember, humans and apes all evolved from a common ances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20:25:36Z</dcterms:created>
  <dc:creator>Student</dc:creator>
  <dc:description/>
  <dc:language>en-US</dc:language>
  <cp:lastModifiedBy>Student</cp:lastModifiedBy>
  <dcterms:modified xsi:type="dcterms:W3CDTF">2012-12-02T21:03:38Z</dcterms:modified>
  <cp:revision>5</cp:revision>
  <dc:subject/>
  <dc:title>Human Evolution The Value Line</dc:title>
</cp:coreProperties>
</file>